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4E65-AA5E-487B-9318-03A3BEA19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C923-B4C5-4DB9-95AD-17F0A8492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043C-316E-4855-82B9-C2A5A161E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8881-EF63-4DE9-BD95-BB3890127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3F694-6B70-4382-8CDC-EFE73CB9B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22F6B-18DC-47B9-A098-EBFBE62CA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CB031-FD57-428A-B410-9F904D6C7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FF8D5-0288-4BC2-B030-D171CF0E8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8DAD1-AF3D-45A7-B601-BB4A43C38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67248-3546-431C-840B-CB79C1F60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21DFD-DDB5-47CC-9826-5D04E7D3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F5CB-4287-4925-B919-3D2E693A3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F2650-CAFC-4C74-A5C4-30431358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84F79-7E35-41AB-B612-556B1EB2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87B07-15F7-4F28-80DA-843DA30C1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D3650-12B8-4FCE-ABEF-1A056FB83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5B267-552F-48BE-825A-10D0740B1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F2EEF-1778-483A-95B3-5657A877B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75455-7ED7-425A-B266-41E8B2C65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C2A96-9B4F-41FC-B6C7-4FB249448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DEE3A-7998-4A28-9236-B72BBE6EB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CBB57-0C6A-4A23-AEF4-EA76133C9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CD4E-926A-439B-BE2D-E74283DB8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CDC08-07C7-4A66-BBED-110B0D69E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1D2FC-30AA-4BAF-BDE0-14F67F49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3C381-5CE3-490C-95EF-74B34923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55DB0-045E-4934-827B-8C9729CA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88A8C-F546-4434-897A-35485B5E6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EB622-047D-4C8B-AB69-88229C07D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71A68-1C03-4A7E-B435-FC5AABB93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321B3-61AF-467D-89DF-00492AF6A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6CFFB-4811-4685-9D64-81AE22240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B760C-9D86-4185-8424-512D71361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741B-97B2-4C68-B6BE-209E3F030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CEF16-B174-4F5C-9C76-832E16163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1A22B-445B-4D1B-81A8-8F67A137A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E25FF-4EA4-46D4-838A-F17E67BD9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A5EFE-B059-433D-9A1D-07493B62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1E3B2-6903-4284-96F3-F40D2284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EB94F-3232-4174-B292-06A3D006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D51D4-30FC-4771-9DF0-31BBD083D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E6E3B-12E3-44FC-8410-724255DB9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FE6D6-5D70-4FBC-8DC0-6149877BA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6F4C7-EEA6-478D-9C27-F13B25027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21D8-FEDC-4D85-BF03-F23315FB7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048B5-844E-4E4A-A75B-5CE61A6BE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7B08C-842A-4A4D-BD50-31DA57571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D1302-967B-4DAC-9A37-2B75051CB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99792-58C0-4CD8-9882-815E2CEF7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D163B-50C5-46E3-BD7B-72D733BF4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2BAE1-BCDC-4D19-97DD-E6996916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142D4-CD99-4981-BEB0-94A4B5C8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F7DC3-7EB2-431E-8137-E789B70E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02AE4-6C3C-46F5-BB23-F60E37A13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6A6CD-893F-4CEC-B404-EA8527ABE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324D-E4B3-4326-AE33-0207DB2B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F3C16-7435-43D8-BA4C-5D0E3E381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5419C3-14C1-406B-9216-E0476077B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8CB23-2845-4471-B251-7D7908794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4B928-8E91-45E6-84D6-6E1D703DB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38BB1-5121-4D57-B640-BD590724B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2259C2-B2B5-4E73-AE83-52CE69CBD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008E60-E098-4875-A7AC-610A48DD9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0F669-63CE-4F86-B41A-1890C13D9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2593C-8F77-401F-817E-32F4E8FD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05F20-5F9E-444B-8C59-37A9ED4A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7CE7-B5B8-42D8-80DF-367476D9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2B17A-F986-41CD-8CEB-7EBA4095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FC9480-F055-4CA3-9E19-8013DCA21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8A2AD-D4EF-416F-930E-6735F8ED2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11D9EF-9AD3-4FC9-930E-44EA855D7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588B0A-A183-4EDF-B0CD-B33DE7D72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F1B1C-0391-4872-BCAC-2505764D4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56D2B7-CD80-4AA9-8E3E-28B303017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64EA19-B44A-445C-821A-C26FF0A67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9C9C61-10E3-4728-9A62-35A80C141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B1B01B-1FBD-4925-B5B0-B161E2CC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A715-9A3C-4CBF-8B58-D9111F12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7DF6F-BC01-425B-BD36-07766242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6EB99-1F8F-4DB3-9B5F-2B4C3893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6903D-6658-47F5-918A-878330BB5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659CB-5BF6-4DEC-BB44-3439D231B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E318E4-2CDD-4BFF-9CCA-12C38F5CF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3B3242-3F22-44CA-9C91-C85975987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ED1CBC-EB74-4481-A1F3-C57F30C48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754D16-AE03-4CBC-B87B-D087BE971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51B941-09DE-443B-818F-F13FE5540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74AE95-7B1F-4E20-9CAE-9CE222C35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34B7-A404-4262-8483-D396D219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382E30-828E-492E-840D-1AEECCE14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2759F9-7F9B-445F-A410-E464B3CA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79C74F-FB50-4891-80EA-E171F2FB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688A86-E092-40E1-A66C-6D144A54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E8874A-BC02-4AC3-80CA-3958976C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FB3689-D83B-4234-B0AC-1928C33D0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F65D86-9E13-4D89-9E65-4623674F6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97D8C-8BB6-44DE-AD51-AAEB0113A95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79417-DC6E-4542-8DF8-4347C7297D79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D05E0-6D2D-442D-9AE2-D9BC8175129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E3EB8-783A-43F9-A822-44CD17328FB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3EC2E-16C8-423A-A80D-B6E0E34839C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EA56C-1E85-4254-9600-EA3B14D36E6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23F3D-3F8E-4B0D-88EB-D851B8E737D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895B1-F305-4E11-ABE9-4A3C8F6FB025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523800" y="1749600"/>
            <a:ext cx="824868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464646"/>
                </a:solidFill>
                <a:latin typeface="Lucida Sans Unicode"/>
              </a:rPr>
              <a:t>An Accessible Introduction to Entrepreneurship and Independent Careers using a Blended –Learning Methodology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4" descr=""/>
          <p:cNvPicPr/>
          <p:nvPr/>
        </p:nvPicPr>
        <p:blipFill>
          <a:blip r:embed="rId2"/>
          <a:stretch/>
        </p:blipFill>
        <p:spPr>
          <a:xfrm>
            <a:off x="2340000" y="1989000"/>
            <a:ext cx="1924200" cy="66996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5" descr=""/>
          <p:cNvPicPr/>
          <p:nvPr/>
        </p:nvPicPr>
        <p:blipFill>
          <a:blip r:embed="rId3"/>
          <a:stretch/>
        </p:blipFill>
        <p:spPr>
          <a:xfrm>
            <a:off x="2484360" y="622440"/>
            <a:ext cx="119088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Dr. Pio Fenton, WIT (Primary Author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Other contributor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Ms. Angela Collins, WIT Careers Servic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Mr. Ciarán Cullen, Waterford County Enterprise Boar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Dr. Bill O Gorman, Centre for Enterprise Development and Regional Economy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300" spc="-1" strike="noStrike">
                <a:solidFill>
                  <a:srgbClr val="000000"/>
                </a:solidFill>
                <a:latin typeface="Lucida Sans Unicode"/>
              </a:rPr>
              <a:t>Built upon need for career opportunities in economically disadvantaged area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300" spc="-1" strike="noStrike">
                <a:solidFill>
                  <a:srgbClr val="000000"/>
                </a:solidFill>
                <a:latin typeface="Lucida Sans Unicode"/>
              </a:rPr>
              <a:t>Aim to provide independent career option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300" spc="-1" strike="noStrike">
                <a:solidFill>
                  <a:srgbClr val="000000"/>
                </a:solidFill>
                <a:latin typeface="Lucida Sans Unicode"/>
              </a:rPr>
              <a:t>Entrepreneurial flavour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300" spc="-1" strike="noStrike">
                <a:solidFill>
                  <a:srgbClr val="000000"/>
                </a:solidFill>
                <a:latin typeface="Lucida Sans Unicode"/>
              </a:rPr>
              <a:t>Engender a sense of cohor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300" spc="-1" strike="noStrike">
                <a:solidFill>
                  <a:srgbClr val="000000"/>
                </a:solidFill>
                <a:latin typeface="Lucida Sans Unicode"/>
              </a:rPr>
              <a:t>Provide practical skills and instil confidenc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300" spc="-1" strike="noStrike">
                <a:solidFill>
                  <a:srgbClr val="000000"/>
                </a:solidFill>
                <a:latin typeface="Lucida Sans Unicode"/>
              </a:rPr>
              <a:t>Blended learning for flexibility and sense of belonging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To engender a sense of empowerment in relation to the development of one's career specifically in terms of independent careers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Provide access to established entrepreneurs with a view to establishing grounded knowledge exchang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To establish organic networks of support linking veteran entrepreneurs and novices in a manner that is good for all involved and has beneficial outcomes for the wider community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To provide a base of knowledge and skills that increase confidence and self-belief but that also act as a guiding rope for career development and goal-achievement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To induce a mindset of enablement that leads participants to seek further opportunities be they training, educational, vocational or venture oriented.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Introduction Day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Keynote speaker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Group Activity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Engagement with mentor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Blended Learning Aspect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Sans Unicode"/>
              </a:rPr>
              <a:t>Project Management for businesse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Sans Unicode"/>
              </a:rPr>
              <a:t>Communication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Sans Unicode"/>
              </a:rPr>
              <a:t>Entrepreneurship and Independent careers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Concluding /bridging event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Challeng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Future path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Motivation Period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ome General Poi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Inbuilt iterative approach would be useful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The concept of “Disadvantage” is quite narrow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Androgogy vs. Pedagogy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Some duplication in plac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Need to outline a role for lead partner more clearly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Some points in the checklists are more to do with administration of the course rather than design of the course – these should be separated more clearly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Overall -  a strong helpful structure for the development of a program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Identify Interested parti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Create mainstreaming committe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Identify training nee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Integrating and evaluating feedbac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ociety as a stakehold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Establishing the support networ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raining needs assessment (engagement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Mentoring role needs clarific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6328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09:15:53Z</dcterms:created>
  <dc:creator>Pio Fenton</dc:creator>
  <dc:description/>
  <dc:language>en-US</dc:language>
  <cp:lastModifiedBy>Pio Fenton</cp:lastModifiedBy>
  <dcterms:modified xsi:type="dcterms:W3CDTF">2011-09-14T14:46:14Z</dcterms:modified>
  <cp:revision>5</cp:revision>
  <dc:subject/>
  <dc:title>Methodological Overview</dc:title>
</cp:coreProperties>
</file>