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B0EF7-FAC1-4C5F-BD20-7DEDB6B005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948FE-1F34-4784-9DEE-D4B0859FE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08275-07B5-4DD0-A3BA-F5DC0957E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50692F-95FC-43A3-BD90-DD37BF23F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4ABB-0389-45E4-8A72-064E9BBE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B1DA-E59F-4F3D-88AB-88FAE3E7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B2E-F331-49A7-A9E5-4CD222D0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A654-E744-4F98-92AF-567CA2BE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2AB6-A2B7-4D9C-A8CC-CC112959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25C4-8174-4B6B-BCE9-02CD4AF6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F6AD-99EC-4DEB-ACC8-3746D153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FEEA-A5EF-4CEA-9BB7-EA16AB15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2398-73E6-4540-A6D7-A064D9A3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6C55-E2BC-4337-A1D3-F3997D57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C2FD-BDAA-4AC1-84BB-123497C2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950-5828-4A65-A71E-D6241E7E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759C-5C6F-4D0C-A794-A8F4E748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6529-7FB4-4616-99F0-1291057B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EFA4-4A27-4FF9-B7A7-ECAC7503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39F1-A1B6-46CE-962B-57D41D1C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A854-29EB-42D0-89DC-A5A24B02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F7E46-9864-47E2-B798-B3C5182A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91B46-2824-436B-8BF4-61E1FC12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CA31D-A810-4076-A812-8F988922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1A541-A24B-4F12-B57C-F9AD2A99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A5774-73D8-4598-BDF6-DAADC6A4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3587-A988-47BA-9158-24B829CC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C2559-1B16-44F7-AA7D-498E8F38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BF237-C56B-4E81-8040-F9E13DC8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1FC90-5CA0-43DE-B100-56C89D4C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5CB56-5B3B-429F-B92D-7A02756A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E7CA5-579F-44D4-924B-2DCED219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094B6-777F-4695-A6F0-C9A3C15C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CB19E-FCAF-4844-9B8C-8EEDC5F1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2A14FA-AF88-4E8D-9249-778435FB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00C024-C9A8-4AAB-BCB4-45777A56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216C44-09C8-429E-9E6D-F7B98409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2949-F51F-43C9-903A-C7FF1D5F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9AE7BA-ECB3-45C0-AB2D-10CFBB72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5DF41D-5B1E-40D7-B2A2-0B92257E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695910-68AB-4FF8-86FE-83AB35E2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E5E9BE-18DD-43FC-AAF1-9CDA641D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AB60A5-9141-484D-BCD4-A898AEAB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485B4A-2519-4ED5-8212-12EE65DA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871DDA-0189-4334-9905-A3ACEE06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B78F18-128F-4CCB-90E3-84291082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16D113-A497-4040-B14E-DE4E523F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57EB14-1920-449B-B6FF-EC8E4A20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7D65-E8BC-439F-B753-93C9F4CA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9C936-77E6-4D8D-AA46-089D7938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91C023-BE30-4FC6-98D4-0A475ECB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FE705-AB55-4B7B-B002-2D2D7F47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6EE475-3DF4-4EB2-871A-02AF352D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1CD2F8-7194-4B59-8347-CDCE0D12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3210B-0DFD-46F5-A8E1-89A32C27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207EEB-3594-42F4-8402-1D292AEE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1900A9-C9A3-47E0-8E95-E941BB6D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C865B8-C7EB-40BB-B904-B89993D3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E17751-632E-4F94-8CA6-19EBDB50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2987-672D-4807-801C-21AECA5F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048D6-DF0C-4A94-9E38-4338842F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BADB2-07AD-47BF-9B02-72317E71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0553B-854A-4E9D-BD24-744802F6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865CB-7461-4363-9DE1-4061469E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01688-FD43-4763-8C90-4BCF87A3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8B8D3-43F8-4F4D-B5E4-A5D460F0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E14B1-BFEC-4C52-8B0E-22E6B872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A6AE9-8A49-46D6-8EF2-DECB248C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5732F-2952-4CB0-B47E-48D9E38A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ACE00-76E5-4C0B-BDC6-D2677C3B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430D-F2CE-4B7A-96AD-0AC84362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C1051-C6F8-4312-B16C-A513A047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1036E-7F34-4C36-9F8F-809C6164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376BB-7952-47C5-A1B6-3A8CB04E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D876D2-58C5-4BB7-A6DC-3B375C1C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618B25-228D-40A0-8AFA-69BBC6DC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EF37A5-16DF-47F4-968C-44484F9D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9CEF63-1D04-4A52-9056-07326D0B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EBA60C-F9C9-4D74-AFD4-B2C2BAE0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EC4902-FC65-472C-9BBE-F1DE1B64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C561E8-38A9-4845-9357-BD541394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EE4-29D5-4615-837C-5B5B521E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EBC16B-9E9B-4991-BCC8-CB2D2B7E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A69C96-75EB-44AF-8FE4-EB1185D8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61F9F2-DFBE-4A4D-928F-EF63596F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C8DFF6-E9FA-414E-A45E-E7AA8588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BB2374-AFC5-4D03-A3E2-2B9F376B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81A9B-C579-4230-BF84-59DDAEC3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26B35-20FF-46AA-BA43-159098D2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AFFB7-8A46-4B17-B405-CDE855E1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C59F5-665E-4CDF-A3B9-1C556249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DB9CA-813A-48F2-8ECD-DB9DB5D0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D4B7-EA88-4A1D-AA73-956DD9B8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84FA8-7026-49BE-BB6D-430779C5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F3B29-2F80-4D10-8EAD-1D662F55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CC1CE-6620-4C41-A89F-0B531531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42262-FF03-49A9-A11D-31053DAB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ED366-BDAC-4A3F-843F-B0ED22AD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29943-2767-478D-9554-3246F14D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BDAAC-021F-41A8-B53E-18FCE218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F34E8-A08C-4937-A0B2-6C3AC52E962A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Heidi Paj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306E4E-03AC-42A5-A1C5-A1D584AD3F1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8C5C5-FC9D-42A4-861D-1CB25210E7DA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Heidi Paj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4C1FD-763C-484D-A1A2-7FCEEC4D45FC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EFB4A-68AB-4991-8DBC-564F7F7E2A4A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BAE23-29F7-4899-BE07-140ADF44151D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Heidi Paj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D116F-018A-42F6-B27A-7D35FDDF18CF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EF1F0-AAE4-42D9-AF94-3C75FD10A3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Heidi Paj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E90A7-AF05-4F78-983D-587CBBC947E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EA71A-F736-4877-AE01-BFB968759ED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Heidi Paj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CA891-CB17-4F00-92E4-70610158B4FC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Heidi Paj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A6FDA-AC31-4F4A-97CB-D6B1416F8382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13140-4D72-4393-801A-4FD91B8C9C0C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8513F-F965-4DC6-9796-448970624D06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Heidi Paj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B3BFF-F053-482B-904E-0BC3B1D559D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Heidi Paj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8F1BB-2709-425F-A30F-0314640E8D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560" y="1373040"/>
            <a:ext cx="8458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190b"/>
                </a:solidFill>
                <a:latin typeface="Tw Cen MT"/>
              </a:rPr>
              <a:t>EVALUATING VET-TEACHER'S COMPETENCE: RECONCEPTUALISING STANDARDS</a:t>
            </a:r>
            <a:endParaRPr b="0" lang="en-US" sz="32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846440" y="5825880"/>
            <a:ext cx="70689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w Cen MT"/>
              </a:rPr>
              <a:t>European Conference on e-Learning for All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w Cen MT"/>
              </a:rPr>
              <a:t>European Training strategies in Practice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w Cen MT"/>
              </a:rPr>
              <a:t>15 September 2011, Dublin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3357720" y="4478400"/>
            <a:ext cx="562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eidi Pa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allinn University, Institute of Educational Sc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eidi@tlu.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logo.png"/>
          <p:cNvPicPr/>
          <p:nvPr/>
        </p:nvPicPr>
        <p:blipFill>
          <a:blip r:embed="rId1"/>
          <a:stretch/>
        </p:blipFill>
        <p:spPr>
          <a:xfrm>
            <a:off x="-12600" y="6032520"/>
            <a:ext cx="26366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4545"/>
                </a:solidFill>
                <a:latin typeface="Tw Cen MT"/>
              </a:rPr>
              <a:t>Working contex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A0F3B-97B2-4C07-B4A8-81CE362F69C4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Heidi P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8"/>
          <p:cNvSpPr/>
          <p:nvPr/>
        </p:nvSpPr>
        <p:spPr>
          <a:xfrm>
            <a:off x="5968080" y="2481120"/>
            <a:ext cx="143244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New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9"/>
          <p:cNvSpPr/>
          <p:nvPr/>
        </p:nvSpPr>
        <p:spPr>
          <a:xfrm>
            <a:off x="2780280" y="5105520"/>
            <a:ext cx="15832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f la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20"/>
          <p:cNvSpPr/>
          <p:nvPr/>
        </p:nvSpPr>
        <p:spPr>
          <a:xfrm>
            <a:off x="2669040" y="1558800"/>
            <a:ext cx="17247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rganis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1"/>
          <p:cNvSpPr/>
          <p:nvPr/>
        </p:nvSpPr>
        <p:spPr>
          <a:xfrm>
            <a:off x="1843560" y="2604960"/>
            <a:ext cx="124344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egi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2"/>
          <p:cNvSpPr/>
          <p:nvPr/>
        </p:nvSpPr>
        <p:spPr>
          <a:xfrm>
            <a:off x="1337760" y="3908520"/>
            <a:ext cx="173412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t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nation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3"/>
          <p:cNvSpPr/>
          <p:nvPr/>
        </p:nvSpPr>
        <p:spPr>
          <a:xfrm>
            <a:off x="4678920" y="1558800"/>
            <a:ext cx="158328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f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4"/>
          <p:cNvSpPr/>
          <p:nvPr/>
        </p:nvSpPr>
        <p:spPr>
          <a:xfrm>
            <a:off x="5700960" y="3957480"/>
            <a:ext cx="252972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New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o learning &amp;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25"/>
          <p:cNvSpPr/>
          <p:nvPr/>
        </p:nvSpPr>
        <p:spPr>
          <a:xfrm>
            <a:off x="4791960" y="5105520"/>
            <a:ext cx="135900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aradig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5"/>
          <p:cNvSpPr/>
          <p:nvPr/>
        </p:nvSpPr>
        <p:spPr>
          <a:xfrm flipV="1">
            <a:off x="1830240" y="3650760"/>
            <a:ext cx="1741680" cy="1800"/>
          </a:xfrm>
          <a:prstGeom prst="line">
            <a:avLst/>
          </a:prstGeom>
          <a:ln w="25560">
            <a:solidFill>
              <a:srgbClr val="e08d59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6"/>
          <p:cNvSpPr/>
          <p:nvPr/>
        </p:nvSpPr>
        <p:spPr>
          <a:xfrm flipH="1" flipV="1">
            <a:off x="4417920" y="1400040"/>
            <a:ext cx="30240" cy="1500480"/>
          </a:xfrm>
          <a:prstGeom prst="line">
            <a:avLst/>
          </a:prstGeom>
          <a:ln w="25560">
            <a:solidFill>
              <a:srgbClr val="e08d59"/>
            </a:solidFill>
            <a:prstDash val="lg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9"/>
          <p:cNvSpPr/>
          <p:nvPr/>
        </p:nvSpPr>
        <p:spPr>
          <a:xfrm flipV="1">
            <a:off x="2441520" y="4219560"/>
            <a:ext cx="1341360" cy="1138320"/>
          </a:xfrm>
          <a:prstGeom prst="line">
            <a:avLst/>
          </a:prstGeom>
          <a:ln w="25560">
            <a:solidFill>
              <a:srgbClr val="e08d59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13"/>
          <p:cNvSpPr/>
          <p:nvPr/>
        </p:nvSpPr>
        <p:spPr>
          <a:xfrm flipH="1" flipV="1">
            <a:off x="2403360" y="1803240"/>
            <a:ext cx="1457280" cy="1298880"/>
          </a:xfrm>
          <a:prstGeom prst="line">
            <a:avLst/>
          </a:prstGeom>
          <a:ln w="25560">
            <a:solidFill>
              <a:srgbClr val="e08d59"/>
            </a:solidFill>
            <a:prstDash val="lg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traight Connector 6"/>
          <p:cNvSpPr/>
          <p:nvPr/>
        </p:nvSpPr>
        <p:spPr>
          <a:xfrm flipH="1" flipV="1">
            <a:off x="4509720" y="4482720"/>
            <a:ext cx="28440" cy="1500120"/>
          </a:xfrm>
          <a:prstGeom prst="line">
            <a:avLst/>
          </a:prstGeom>
          <a:ln w="25560">
            <a:solidFill>
              <a:srgbClr val="e08d59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9"/>
          <p:cNvSpPr/>
          <p:nvPr/>
        </p:nvSpPr>
        <p:spPr>
          <a:xfrm flipV="1">
            <a:off x="5164200" y="1755720"/>
            <a:ext cx="1509480" cy="1300320"/>
          </a:xfrm>
          <a:prstGeom prst="line">
            <a:avLst/>
          </a:prstGeom>
          <a:ln w="25560">
            <a:solidFill>
              <a:srgbClr val="e08d59"/>
            </a:solidFill>
            <a:prstDash val="lg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5"/>
          <p:cNvSpPr/>
          <p:nvPr/>
        </p:nvSpPr>
        <p:spPr>
          <a:xfrm flipV="1">
            <a:off x="5505480" y="3666600"/>
            <a:ext cx="1739880" cy="1800"/>
          </a:xfrm>
          <a:prstGeom prst="line">
            <a:avLst/>
          </a:prstGeom>
          <a:ln w="25560">
            <a:solidFill>
              <a:srgbClr val="e08d59"/>
            </a:solidFill>
            <a:prstDash val="lg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traight Connector 13"/>
          <p:cNvSpPr/>
          <p:nvPr/>
        </p:nvSpPr>
        <p:spPr>
          <a:xfrm flipH="1" flipV="1">
            <a:off x="5231880" y="4268880"/>
            <a:ext cx="1451160" cy="1285920"/>
          </a:xfrm>
          <a:prstGeom prst="line">
            <a:avLst/>
          </a:prstGeom>
          <a:ln w="25560">
            <a:solidFill>
              <a:srgbClr val="e08d59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6"/>
          <p:cNvSpPr/>
          <p:nvPr/>
        </p:nvSpPr>
        <p:spPr>
          <a:xfrm>
            <a:off x="3619440" y="2916360"/>
            <a:ext cx="1851120" cy="1554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08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eacher’s roles &amp; competenc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4545"/>
                </a:solidFill>
                <a:latin typeface="Tw Cen MT"/>
              </a:rPr>
              <a:t>Individual professional profi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9CE9A-C2B3-45D5-ACC8-9497852D514B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Heidi P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7"/>
          <p:cNvSpPr/>
          <p:nvPr/>
        </p:nvSpPr>
        <p:spPr>
          <a:xfrm>
            <a:off x="1647720" y="4170240"/>
            <a:ext cx="4119840" cy="18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10"/>
          <p:cNvSpPr/>
          <p:nvPr/>
        </p:nvSpPr>
        <p:spPr>
          <a:xfrm>
            <a:off x="3706200" y="2209680"/>
            <a:ext cx="4680" cy="391644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2"/>
          <p:cNvSpPr/>
          <p:nvPr/>
        </p:nvSpPr>
        <p:spPr>
          <a:xfrm>
            <a:off x="352800" y="2135160"/>
            <a:ext cx="149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edag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3"/>
          <p:cNvSpPr/>
          <p:nvPr/>
        </p:nvSpPr>
        <p:spPr>
          <a:xfrm>
            <a:off x="457200" y="534996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ubstan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4"/>
          <p:cNvSpPr/>
          <p:nvPr/>
        </p:nvSpPr>
        <p:spPr>
          <a:xfrm>
            <a:off x="5438160" y="223668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velop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5"/>
          <p:cNvSpPr/>
          <p:nvPr/>
        </p:nvSpPr>
        <p:spPr>
          <a:xfrm>
            <a:off x="5412240" y="5479920"/>
            <a:ext cx="17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rganiz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1"/>
          <p:cNvSpPr/>
          <p:nvPr/>
        </p:nvSpPr>
        <p:spPr>
          <a:xfrm>
            <a:off x="2408400" y="2589120"/>
            <a:ext cx="126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Pedagog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(6,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6"/>
          <p:cNvSpPr/>
          <p:nvPr/>
        </p:nvSpPr>
        <p:spPr>
          <a:xfrm>
            <a:off x="1440360" y="3327480"/>
            <a:ext cx="14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Mas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of educ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process (5,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traight Connector 18"/>
          <p:cNvSpPr/>
          <p:nvPr/>
        </p:nvSpPr>
        <p:spPr>
          <a:xfrm flipH="1" flipV="1">
            <a:off x="1982520" y="2781360"/>
            <a:ext cx="1724040" cy="1388880"/>
          </a:xfrm>
          <a:prstGeom prst="line">
            <a:avLst/>
          </a:prstGeom>
          <a:ln w="19080">
            <a:solidFill>
              <a:srgbClr val="3a575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traight Connector 22"/>
          <p:cNvSpPr/>
          <p:nvPr/>
        </p:nvSpPr>
        <p:spPr>
          <a:xfrm flipH="1">
            <a:off x="1982880" y="4172040"/>
            <a:ext cx="1728720" cy="1271520"/>
          </a:xfrm>
          <a:prstGeom prst="line">
            <a:avLst/>
          </a:prstGeom>
          <a:ln w="19080">
            <a:solidFill>
              <a:srgbClr val="3a575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25"/>
          <p:cNvSpPr/>
          <p:nvPr/>
        </p:nvSpPr>
        <p:spPr>
          <a:xfrm>
            <a:off x="3679920" y="2627280"/>
            <a:ext cx="135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Self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(4,4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26"/>
          <p:cNvSpPr/>
          <p:nvPr/>
        </p:nvSpPr>
        <p:spPr>
          <a:xfrm>
            <a:off x="4434480" y="3452760"/>
            <a:ext cx="15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Devel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profession (4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27"/>
          <p:cNvSpPr/>
          <p:nvPr/>
        </p:nvSpPr>
        <p:spPr>
          <a:xfrm>
            <a:off x="4299480" y="4273560"/>
            <a:ext cx="1758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Administra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(4,7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28"/>
          <p:cNvSpPr/>
          <p:nvPr/>
        </p:nvSpPr>
        <p:spPr>
          <a:xfrm>
            <a:off x="3713760" y="4991040"/>
            <a:ext cx="111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Know-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team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(5,6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29"/>
          <p:cNvSpPr/>
          <p:nvPr/>
        </p:nvSpPr>
        <p:spPr>
          <a:xfrm>
            <a:off x="2427120" y="5041800"/>
            <a:ext cx="127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Wo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compet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(7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30"/>
          <p:cNvSpPr/>
          <p:nvPr/>
        </p:nvSpPr>
        <p:spPr>
          <a:xfrm>
            <a:off x="1260000" y="4286160"/>
            <a:ext cx="163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Profess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know-how (7,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31"/>
          <p:cNvSpPr/>
          <p:nvPr/>
        </p:nvSpPr>
        <p:spPr>
          <a:xfrm flipH="1">
            <a:off x="3720960" y="2997360"/>
            <a:ext cx="1563840" cy="1163520"/>
          </a:xfrm>
          <a:prstGeom prst="line">
            <a:avLst/>
          </a:prstGeom>
          <a:ln w="19080">
            <a:solidFill>
              <a:srgbClr val="3a575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32"/>
          <p:cNvSpPr/>
          <p:nvPr/>
        </p:nvSpPr>
        <p:spPr>
          <a:xfrm flipH="1" flipV="1">
            <a:off x="3714480" y="4176360"/>
            <a:ext cx="1569960" cy="1266840"/>
          </a:xfrm>
          <a:prstGeom prst="line">
            <a:avLst/>
          </a:prstGeom>
          <a:ln w="19080">
            <a:solidFill>
              <a:srgbClr val="3a575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4545"/>
                </a:solidFill>
                <a:latin typeface="Tw Cen MT"/>
              </a:rPr>
              <a:t>Conclus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7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CE50F-FD4E-4DDE-85F1-2D86257BF475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Heidi P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udents feel more competent in substantive doma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ery few recognize need of developing research skil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del needs detailed explanation before using it as self-evaluation tool for novice teacher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4545"/>
                </a:solidFill>
                <a:latin typeface="Tw Cen MT"/>
              </a:rPr>
              <a:t>Thank you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CCA0D-BD29-4250-8D62-0F25CD0FE682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Heidi P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4545"/>
                </a:solidFill>
                <a:latin typeface="Tw Cen MT"/>
              </a:rPr>
              <a:t>Vocational teacher’s experti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3E7F2-9288-4077-8455-4FB43FEFCDC1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oter Placeholder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Heidi P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novice teacher’s see the profile of ideal skilled teacher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novice teacher assess their own competenc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n we use teacher’s expertise model as self-evaluation tool for novice teacher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4545"/>
                </a:solidFill>
                <a:latin typeface="Tw Cen MT"/>
              </a:rPr>
              <a:t>Theoretical frame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59063-5500-4531-9E5B-F1C4A86A7FFC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Heidi P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’s expertise model (Helakorpi 2009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stonian vocational teacher’s professional standar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4545"/>
                </a:solidFill>
                <a:latin typeface="Tw Cen MT"/>
              </a:rPr>
              <a:t>Teacher’s expertise mode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4662E-8CCF-4BF7-9B94-47614158E094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Heidi P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7"/>
          <p:cNvSpPr/>
          <p:nvPr/>
        </p:nvSpPr>
        <p:spPr>
          <a:xfrm>
            <a:off x="1647720" y="4170240"/>
            <a:ext cx="4119840" cy="18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10"/>
          <p:cNvSpPr/>
          <p:nvPr/>
        </p:nvSpPr>
        <p:spPr>
          <a:xfrm>
            <a:off x="3706200" y="2209680"/>
            <a:ext cx="4680" cy="391644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2"/>
          <p:cNvSpPr/>
          <p:nvPr/>
        </p:nvSpPr>
        <p:spPr>
          <a:xfrm>
            <a:off x="1725120" y="2882880"/>
            <a:ext cx="149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edag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1997280" y="479736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ubstan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4"/>
          <p:cNvSpPr/>
          <p:nvPr/>
        </p:nvSpPr>
        <p:spPr>
          <a:xfrm>
            <a:off x="4174560" y="288288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velop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5"/>
          <p:cNvSpPr/>
          <p:nvPr/>
        </p:nvSpPr>
        <p:spPr>
          <a:xfrm>
            <a:off x="4149720" y="4797360"/>
            <a:ext cx="17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rganiz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4545"/>
                </a:solidFill>
                <a:latin typeface="Tw Cen MT"/>
              </a:rPr>
              <a:t>Teacher’s expertise mode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CC756-EEE4-484E-87B2-4424E5D1DF6C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Heidi P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7"/>
          <p:cNvSpPr/>
          <p:nvPr/>
        </p:nvSpPr>
        <p:spPr>
          <a:xfrm>
            <a:off x="1647720" y="4170240"/>
            <a:ext cx="4119840" cy="18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traight Connector 10"/>
          <p:cNvSpPr/>
          <p:nvPr/>
        </p:nvSpPr>
        <p:spPr>
          <a:xfrm>
            <a:off x="3706200" y="2209680"/>
            <a:ext cx="4680" cy="391644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"/>
          <p:cNvSpPr/>
          <p:nvPr/>
        </p:nvSpPr>
        <p:spPr>
          <a:xfrm>
            <a:off x="411480" y="2135160"/>
            <a:ext cx="149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edag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333360" y="547992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ubstan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4"/>
          <p:cNvSpPr/>
          <p:nvPr/>
        </p:nvSpPr>
        <p:spPr>
          <a:xfrm>
            <a:off x="5595120" y="220968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velop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5"/>
          <p:cNvSpPr/>
          <p:nvPr/>
        </p:nvSpPr>
        <p:spPr>
          <a:xfrm>
            <a:off x="5412240" y="5479920"/>
            <a:ext cx="17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rganiz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1"/>
          <p:cNvSpPr/>
          <p:nvPr/>
        </p:nvSpPr>
        <p:spPr>
          <a:xfrm>
            <a:off x="2408760" y="2589120"/>
            <a:ext cx="126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8d0000"/>
                </a:solidFill>
                <a:latin typeface="Tw Cen MT"/>
              </a:rPr>
              <a:t>Pedagog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8d0000"/>
                </a:solidFill>
                <a:latin typeface="Tw Cen MT"/>
              </a:rPr>
              <a:t>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6"/>
          <p:cNvSpPr/>
          <p:nvPr/>
        </p:nvSpPr>
        <p:spPr>
          <a:xfrm>
            <a:off x="1440360" y="3327480"/>
            <a:ext cx="14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Mas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of educ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traight Connector 18"/>
          <p:cNvSpPr/>
          <p:nvPr/>
        </p:nvSpPr>
        <p:spPr>
          <a:xfrm flipH="1" flipV="1">
            <a:off x="1982520" y="2781360"/>
            <a:ext cx="1724040" cy="1388880"/>
          </a:xfrm>
          <a:prstGeom prst="line">
            <a:avLst/>
          </a:prstGeom>
          <a:ln w="19080">
            <a:solidFill>
              <a:srgbClr val="3a575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traight Connector 22"/>
          <p:cNvSpPr/>
          <p:nvPr/>
        </p:nvSpPr>
        <p:spPr>
          <a:xfrm flipH="1">
            <a:off x="1982880" y="4172040"/>
            <a:ext cx="1728720" cy="1271520"/>
          </a:xfrm>
          <a:prstGeom prst="line">
            <a:avLst/>
          </a:prstGeom>
          <a:ln w="19080">
            <a:solidFill>
              <a:srgbClr val="3a575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5"/>
          <p:cNvSpPr/>
          <p:nvPr/>
        </p:nvSpPr>
        <p:spPr>
          <a:xfrm>
            <a:off x="3679920" y="2627280"/>
            <a:ext cx="135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8d0000"/>
                </a:solidFill>
                <a:latin typeface="Century Gothic"/>
              </a:rPr>
              <a:t>Self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8d0000"/>
                </a:solidFill>
                <a:latin typeface="Century Gothic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26"/>
          <p:cNvSpPr/>
          <p:nvPr/>
        </p:nvSpPr>
        <p:spPr>
          <a:xfrm>
            <a:off x="4609800" y="3452760"/>
            <a:ext cx="118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Devel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prof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7"/>
          <p:cNvSpPr/>
          <p:nvPr/>
        </p:nvSpPr>
        <p:spPr>
          <a:xfrm>
            <a:off x="4299480" y="42735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Administra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8"/>
          <p:cNvSpPr/>
          <p:nvPr/>
        </p:nvSpPr>
        <p:spPr>
          <a:xfrm>
            <a:off x="3713760" y="4991040"/>
            <a:ext cx="11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Know-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team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9"/>
          <p:cNvSpPr/>
          <p:nvPr/>
        </p:nvSpPr>
        <p:spPr>
          <a:xfrm>
            <a:off x="2426400" y="5041800"/>
            <a:ext cx="127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Wo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compet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30"/>
          <p:cNvSpPr/>
          <p:nvPr/>
        </p:nvSpPr>
        <p:spPr>
          <a:xfrm>
            <a:off x="1614600" y="428616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Profess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30000"/>
                </a:solidFill>
                <a:latin typeface="Century Gothic"/>
              </a:rPr>
              <a:t>know-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31"/>
          <p:cNvSpPr/>
          <p:nvPr/>
        </p:nvSpPr>
        <p:spPr>
          <a:xfrm flipH="1">
            <a:off x="3720960" y="2997360"/>
            <a:ext cx="1563840" cy="1163520"/>
          </a:xfrm>
          <a:prstGeom prst="line">
            <a:avLst/>
          </a:prstGeom>
          <a:ln w="19080">
            <a:solidFill>
              <a:srgbClr val="3a575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traight Connector 32"/>
          <p:cNvSpPr/>
          <p:nvPr/>
        </p:nvSpPr>
        <p:spPr>
          <a:xfrm flipH="1" flipV="1">
            <a:off x="3714480" y="4176360"/>
            <a:ext cx="1569960" cy="1266840"/>
          </a:xfrm>
          <a:prstGeom prst="line">
            <a:avLst/>
          </a:prstGeom>
          <a:ln w="19080">
            <a:solidFill>
              <a:srgbClr val="3a575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4545"/>
                </a:solidFill>
                <a:latin typeface="Tw Cen MT"/>
              </a:rPr>
              <a:t>VET teacher’s professional standar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B9C92-0ECA-4A18-AABD-BC312646EE37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Heidi P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9"/>
          <p:cNvSpPr/>
          <p:nvPr/>
        </p:nvSpPr>
        <p:spPr>
          <a:xfrm>
            <a:off x="1625760" y="3378240"/>
            <a:ext cx="6308640" cy="126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0"/>
          <p:cNvSpPr/>
          <p:nvPr/>
        </p:nvSpPr>
        <p:spPr>
          <a:xfrm>
            <a:off x="1625760" y="4330800"/>
            <a:ext cx="6308640" cy="144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2"/>
          <p:cNvSpPr/>
          <p:nvPr/>
        </p:nvSpPr>
        <p:spPr>
          <a:xfrm>
            <a:off x="3708360" y="2665440"/>
            <a:ext cx="0" cy="22986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5"/>
          <p:cNvSpPr/>
          <p:nvPr/>
        </p:nvSpPr>
        <p:spPr>
          <a:xfrm>
            <a:off x="1915200" y="266544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6"/>
          <p:cNvSpPr/>
          <p:nvPr/>
        </p:nvSpPr>
        <p:spPr>
          <a:xfrm>
            <a:off x="1857600" y="35892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V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7"/>
          <p:cNvSpPr/>
          <p:nvPr/>
        </p:nvSpPr>
        <p:spPr>
          <a:xfrm>
            <a:off x="1837080" y="444024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II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8"/>
          <p:cNvSpPr/>
          <p:nvPr/>
        </p:nvSpPr>
        <p:spPr>
          <a:xfrm>
            <a:off x="4017240" y="266544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ster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3"/>
          <p:cNvSpPr/>
          <p:nvPr/>
        </p:nvSpPr>
        <p:spPr>
          <a:xfrm>
            <a:off x="4050720" y="360504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achelor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4"/>
          <p:cNvSpPr/>
          <p:nvPr/>
        </p:nvSpPr>
        <p:spPr>
          <a:xfrm>
            <a:off x="4095720" y="4430880"/>
            <a:ext cx="36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ary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4545"/>
                </a:solidFill>
                <a:latin typeface="Tw Cen MT"/>
              </a:rPr>
              <a:t>VET teacher’s professional standar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282AA-3EC9-4761-9F64-9D0790012EEF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Heidi P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2928960"/>
            <a:ext cx="811548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1360" indent="-261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reating and developing positive teaching-learning environ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lanning and analyzing learning-proces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nalyzing and assessing students’ learning outcom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Knowledge of school as working environ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lf-reflection and self-development through life-long learn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upporting students’ develop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velopment of profess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Straight Connector 9"/>
          <p:cNvSpPr/>
          <p:nvPr/>
        </p:nvSpPr>
        <p:spPr>
          <a:xfrm>
            <a:off x="1625760" y="2717640"/>
            <a:ext cx="6308640" cy="1296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6"/>
          <p:cNvSpPr/>
          <p:nvPr/>
        </p:nvSpPr>
        <p:spPr>
          <a:xfrm>
            <a:off x="1654560" y="2041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V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4545"/>
                </a:solidFill>
                <a:latin typeface="Tw Cen MT"/>
              </a:rPr>
              <a:t>Pilot-stud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8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3B22D-7A76-47FA-AB33-5B323F7EB1CD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Heidi P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cus-group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spcAft>
                <a:spcPts val="601"/>
              </a:spcAft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6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w Cen MT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year stud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spcAft>
                <a:spcPts val="601"/>
              </a:spcAft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eaching experience up to 2 yea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spcAft>
                <a:spcPts val="601"/>
              </a:spcAft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verage age 36 yea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spcAft>
                <a:spcPts val="601"/>
              </a:spcAft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pecialties: service, production, militar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aluation of competen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spcAft>
                <a:spcPts val="601"/>
              </a:spcAft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cale: 0 – not competen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spcAft>
                <a:spcPts val="601"/>
              </a:spcAft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0 – very compet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4545"/>
                </a:solidFill>
                <a:latin typeface="Tw Cen MT"/>
              </a:rPr>
              <a:t>Skilled teacher’s profi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BCDB9-9594-4A44-B68E-48D78EF26D94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Heidi P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ubstantive doma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dagogical doma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rganizational doma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earch and develop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0:14:10Z</dcterms:created>
  <dc:creator>Heidi Paju</dc:creator>
  <dc:description/>
  <dc:language>en-US</dc:language>
  <cp:lastModifiedBy>Nora</cp:lastModifiedBy>
  <dcterms:modified xsi:type="dcterms:W3CDTF">2011-09-06T08:14:50Z</dcterms:modified>
  <cp:revision>68</cp:revision>
  <dc:subject/>
  <dc:title>Vocational teachers’ self-evaluation of their competence</dc:title>
</cp:coreProperties>
</file>