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943-A585-4EDC-BA42-E75AB474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F21-C52A-4DD6-9568-9D0ED01C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D33-EE43-45FB-B932-C37F7B66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647-D648-4FE7-91ED-B9E93390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5607-40B0-4A1C-B322-E86E41D3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B7A3-03E2-454B-AFAA-57D57C58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E7E7-CBD7-4444-BED2-C3DA5DC4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F183-C31C-4AE6-9F22-65E4C21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A6F7-E733-48EA-9EC5-28FE1498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F698-B129-4D42-9F29-105B1229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EEB8-4ACD-4B6D-BFEE-48B66FB5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9FE-446B-4DD9-BCD0-0EAAB791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172D-D43C-440E-8895-82DE894B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863C-74E4-42C7-BAA4-50B3726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73C4-28EB-409D-A39A-8DFDC434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E0BD-7EF9-4BF6-81B7-6C668EDF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CB59-0DEF-4461-B4C7-7403E94D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A3D-0EBF-4F02-82C7-7FB19D2A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849-A831-45BF-96DE-C970B1EC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9A2-4C61-4239-BC77-D86C4F12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894-DF62-4121-B9CE-720FC702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2EA-C0B1-4365-A224-4DF37B7D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7F4-0943-489D-8D72-D0BA042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81E-A740-4479-B79D-2BC3DF2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797B-42A2-468F-9958-79A873F523C7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8960-FAD5-4E00-A95D-4A17BB354188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kyrme.com/resource/kmres2.htm" TargetMode="External"/><Relationship Id="rId2" Type="http://schemas.openxmlformats.org/officeDocument/2006/relationships/hyperlink" Target="http://www.skyrme.com/resource/kmres2.htm" TargetMode="External"/><Relationship Id="rId3" Type="http://schemas.openxmlformats.org/officeDocument/2006/relationships/hyperlink" Target="http://www.skyrme.com/resource/kmres2.htm" TargetMode="External"/><Relationship Id="rId4" Type="http://schemas.openxmlformats.org/officeDocument/2006/relationships/hyperlink" Target="http://www.skyrme.com/resource/kmres2.htm" TargetMode="External"/><Relationship Id="rId5" Type="http://schemas.openxmlformats.org/officeDocument/2006/relationships/hyperlink" Target="http://www.skyrme.com/resource/kmres2.htm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edefop.europa.eu/EN/Files/2067-att1-1-Edwin_Webb.pdf" TargetMode="External"/><Relationship Id="rId2" Type="http://schemas.openxmlformats.org/officeDocument/2006/relationships/hyperlink" Target="http://ec.europa.eu/archives/growthandjobs_2009/pdf/complet_en.pdf" TargetMode="External"/><Relationship Id="rId3" Type="http://schemas.openxmlformats.org/officeDocument/2006/relationships/hyperlink" Target="http://www.cedefop.europa.eu/EN/news/15466.aspx" TargetMode="External"/><Relationship Id="rId4" Type="http://schemas.openxmlformats.org/officeDocument/2006/relationships/hyperlink" Target="http://www.ekepis.gr/main/&#916;&#961;&#940;&#963;&#949;&#953;&#962;&#933;&#960;&#951;&#961;&#949;&#963;&#943;&#949;&#962;/&#917;&#960;&#945;&#947;&#947;&#949;&#955;&#956;&#945;&#964;&#953;&#954;&#940;&#928;&#949;&#961;&#953;&#947;&#961;&#940;&#956;&#956;&#945;&#964;&#945;/&#922;&#945;&#964;&#940;&#955;&#959;&#947;&#959;&#962;&#917;&#960;&#945;&#947;&#947;&#949;&#955;&#956;&#945;&#964;&#953;&#954;&#974;&#957;&#928;&#949;&#961;&#953;&#947;&#961;&#945;&#956;&#956;&#940;&#964;&#969;&#957;/tabid/143/Default.aspx" TargetMode="External"/><Relationship Id="rId5" Type="http://schemas.openxmlformats.org/officeDocument/2006/relationships/hyperlink" Target="http://ec.europa.eu/education/lifelong-learning-policy/doc/vocational/bruges_en.pdf" TargetMode="External"/><Relationship Id="rId6" Type="http://schemas.openxmlformats.org/officeDocument/2006/relationships/hyperlink" Target="http://ec.europa.eu/education/policies/2010/doc/helsinkicom_en.pdf" TargetMode="External"/><Relationship Id="rId7" Type="http://schemas.openxmlformats.org/officeDocument/2006/relationships/hyperlink" Target="http://www.trainersnetwork.ie/tnfullrep.pdf" TargetMode="External"/><Relationship Id="rId8" Type="http://schemas.openxmlformats.org/officeDocument/2006/relationships/hyperlink" Target="http://www.trainersnetwork.ie/tnfullrep.pd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00"/>
                </a:solidFill>
                <a:latin typeface="Calibri"/>
              </a:rPr>
              <a:t>Why Training Providers and In-company Trainers matter in the new era of major changes and Lifelong learning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8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Garamond"/>
              </a:rPr>
              <a:t>Bruno Thiberge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5562720"/>
            <a:ext cx="712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33cc"/>
                </a:solidFill>
                <a:latin typeface="Arial"/>
              </a:rPr>
              <a:t>"European training strategies in practic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cc"/>
                </a:solidFill>
                <a:latin typeface="Arial"/>
              </a:rPr>
              <a:t>Dublin – 15th of 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Influencing Factors: </a:t>
            </a:r>
            <a:r>
              <a:rPr b="1" lang="en-IE" sz="2400" spc="-1" strike="noStrike">
                <a:solidFill>
                  <a:srgbClr val="339933"/>
                </a:solidFill>
                <a:latin typeface="Calibri"/>
              </a:rPr>
              <a:t>C</a:t>
            </a: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hallenges for </a:t>
            </a:r>
            <a:r>
              <a:rPr b="1" lang="en-IE" sz="2400" spc="-1" strike="noStrike">
                <a:solidFill>
                  <a:srgbClr val="339933"/>
                </a:solidFill>
                <a:latin typeface="Calibri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rainer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this context, the Trainer's role is importa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he challenge of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innovative strategies requires the workforce to develop their skills, upgrade their knowledge and change their attitude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, towards enhancing the strength and flexibility of the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Training supports the internal coordination and streamlining of processes in the organisation,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thus increasing the productivity and effectiveness and reducing costs and wa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Knowledge-sharing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throughout the organisation contributes strongly to the development of knowledge on organisation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Workforce training promotes professionalism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among employees, which in return increases the image of the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Workforce training within the context of lifelong learning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is an appropriate instrument to cope with an economic crisis and increase the ‘profit facto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Calibri"/>
              </a:rPr>
              <a:t>Tailor-made training supports the career of employee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d has a strong effect on the morale and well-being of the w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bing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themselves as </a:t>
            </a:r>
            <a:r>
              <a:rPr b="1" lang="nl-NL" sz="1600" spc="-1" strike="noStrike">
                <a:solidFill>
                  <a:srgbClr val="006633"/>
                </a:solidFill>
                <a:latin typeface="Calibri"/>
              </a:rPr>
              <a:t>‘</a:t>
            </a:r>
            <a:r>
              <a:rPr b="1" lang="nl-NL" sz="1600" spc="-1" strike="noStrike">
                <a:solidFill>
                  <a:srgbClr val="339933"/>
                </a:solidFill>
                <a:latin typeface="Calibri"/>
              </a:rPr>
              <a:t>learning organisations’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are at the same time ‘changing organisations’, becoming also </a:t>
            </a:r>
            <a:r>
              <a:rPr b="1" lang="nl-NL" sz="1600" spc="-1" strike="noStrike">
                <a:solidFill>
                  <a:srgbClr val="339933"/>
                </a:solidFill>
                <a:latin typeface="Calibri"/>
              </a:rPr>
              <a:t>‘innovative organisations’</a:t>
            </a:r>
            <a:r>
              <a:rPr b="1" lang="nl-NL" sz="1600" spc="-1" strike="noStrike">
                <a:solidFill>
                  <a:srgbClr val="006633"/>
                </a:solidFill>
                <a:latin typeface="Calibri"/>
              </a:rPr>
              <a:t>.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Therefore, </a:t>
            </a:r>
            <a:r>
              <a:rPr b="1" lang="nl-NL" sz="1600" spc="-1" strike="noStrike">
                <a:solidFill>
                  <a:srgbClr val="339933"/>
                </a:solidFill>
                <a:latin typeface="Calibri"/>
              </a:rPr>
              <a:t>investing in workforce training means investing in innov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rning organisation*: A solution to deal with these challenges?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* “An organisation that facilitates the learning of all its members and continually transforms itself" (</a:t>
            </a:r>
            <a:r>
              <a:rPr b="0" lang="en-GB" sz="1000" spc="-1" strike="noStrike" u="sng">
                <a:solidFill>
                  <a:srgbClr val="996600"/>
                </a:solidFill>
                <a:uFillTx/>
                <a:latin typeface="Calibri"/>
                <a:hlinkClick r:id="rId1"/>
              </a:rPr>
              <a:t>M. </a:t>
            </a:r>
            <a:r>
              <a:rPr b="0" lang="en-GB" sz="1000" spc="-1" strike="noStrike" u="sng">
                <a:solidFill>
                  <a:srgbClr val="996600"/>
                </a:solidFill>
                <a:uFillTx/>
                <a:latin typeface="Calibri"/>
                <a:hlinkClick r:id="rId2"/>
              </a:rPr>
              <a:t>Pedler</a:t>
            </a:r>
            <a:r>
              <a:rPr b="0" lang="en-GB" sz="1000" spc="-1" strike="noStrike" u="sng">
                <a:solidFill>
                  <a:srgbClr val="996600"/>
                </a:solidFill>
                <a:uFillTx/>
                <a:latin typeface="Calibri"/>
                <a:hlinkClick r:id="rId3"/>
              </a:rPr>
              <a:t>, J. Burgoyne and Tom </a:t>
            </a:r>
            <a:r>
              <a:rPr b="0" lang="en-GB" sz="1000" spc="-1" strike="noStrike" u="sng">
                <a:solidFill>
                  <a:srgbClr val="996600"/>
                </a:solidFill>
                <a:uFillTx/>
                <a:latin typeface="Calibri"/>
                <a:hlinkClick r:id="rId4"/>
              </a:rPr>
              <a:t>Boydell</a:t>
            </a:r>
            <a:r>
              <a:rPr b="0" lang="en-GB" sz="1000" spc="-1" strike="noStrike" u="sng">
                <a:solidFill>
                  <a:srgbClr val="996600"/>
                </a:solidFill>
                <a:uFillTx/>
                <a:latin typeface="Calibri"/>
                <a:hlinkClick r:id="rId5"/>
              </a:rPr>
              <a:t>, 1991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33"/>
                </a:solidFill>
                <a:latin typeface="Calibri"/>
              </a:rPr>
              <a:t>Evolution of variables influencing tasks and competences of training managers – Garf survey 2010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295280"/>
          <a:ext cx="8229240" cy="4530600"/>
        </p:xfrm>
        <a:graphic>
          <a:graphicData uri="http://schemas.openxmlformats.org/drawingml/2006/table">
            <a:tbl>
              <a:tblPr/>
              <a:tblGrid>
                <a:gridCol w="5560920"/>
                <a:gridCol w="892080"/>
                <a:gridCol w="888120"/>
                <a:gridCol w="888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7 Variables – Evolution between 2005 and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de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Increasing productiveness (mastering relation between costs and resul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Quality (systematizing client /provider‘s relationshi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Opening (enlarging) training process: flexibility of processes in terms of time, place, learning means, method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Individualizing training: training project as a co-production process between company and employ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Aims of the Training Function: meeting competence demands of  specific situations, matching internal-external  employ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Managing the educational process: through a project management techni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Implementing and managing professionalization processes: selecting and combining different learning means (training, tutoring, mentoring, e-learning, etc.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       </a:t>
                      </a:r>
                      <a:r>
                        <a:rPr b="0" lang="en-GB" sz="1200" spc="-1" strike="noStrike">
                          <a:solidFill>
                            <a:srgbClr val="000080"/>
                          </a:solidFill>
                          <a:latin typeface="Calibri"/>
                          <a:ea typeface="Times New Roman"/>
                        </a:rPr>
                        <a:t>90¨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33"/>
                </a:solidFill>
                <a:latin typeface="Calibri"/>
              </a:rPr>
              <a:t>Trainers' changing roles and competences</a:t>
            </a: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33"/>
                </a:solidFill>
                <a:latin typeface="Calibri"/>
              </a:rPr>
              <a:t>Training manager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should be able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Focus on linking the training strategy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with the company’s business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Work more closely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with operational managers and </a:t>
            </a:r>
            <a:r>
              <a:rPr b="1" lang="en-GB" sz="1600" spc="-1" strike="noStrike">
                <a:solidFill>
                  <a:srgbClr val="006633"/>
                </a:solidFill>
                <a:latin typeface="Calibri"/>
              </a:rPr>
              <a:t>help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hem to </a:t>
            </a:r>
            <a:r>
              <a:rPr b="1" lang="en-GB" sz="1600" spc="-1" strike="noStrike">
                <a:solidFill>
                  <a:srgbClr val="006633"/>
                </a:solidFill>
                <a:latin typeface="Calibri"/>
              </a:rPr>
              <a:t>facilitate informal, on the job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Develop an understanding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of ICT and its use in workforc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Work in multidisciplinar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Keep informed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about health and safety at work iss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Get an understanding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of intercultural iss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Develop links with institutional bodie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(regions, vocational training, etc.) when training will deal with jobs and qua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Make training seen as</a:t>
            </a:r>
            <a:r>
              <a:rPr b="1" lang="en-GB" sz="1600" spc="-1" strike="noStrike">
                <a:solidFill>
                  <a:srgbClr val="006633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GB" sz="1600" spc="-1" strike="noStrike">
                <a:solidFill>
                  <a:srgbClr val="006633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strategic investment rather than a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9933"/>
                </a:solidFill>
                <a:latin typeface="Calibri"/>
              </a:rPr>
              <a:t>Trainers' changing roles and competence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iner (in broad sen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strategic resourc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who has to think strategic and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Delivering tailor made competence’s solution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339933"/>
                </a:solidFill>
                <a:latin typeface="Calibri"/>
              </a:rPr>
              <a:t>related to business context and strategy</a:t>
            </a: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Turning to a learning service provider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without forgetting the delivery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Co-producer of competences,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facilitator of workforce's mo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"Mediator"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between organisation and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33"/>
                </a:solidFill>
                <a:latin typeface="Calibri"/>
              </a:rPr>
              <a:t>"</a:t>
            </a: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Change agent",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facilitating evolution of cultural mindset, practices at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9933"/>
                </a:solidFill>
                <a:latin typeface="Calibri"/>
              </a:rPr>
              <a:t>Needs constant trainin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in domains such as: strategic management, management of change, international, inter-, multi-, trans -cultural issues, training to mobility and intercultural skills, communication, cost effectiveness, coaching, implementing learning organisations, evaluation, blended training strategies and information syst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9933"/>
                </a:solidFill>
                <a:latin typeface="Calibri"/>
              </a:rPr>
              <a:t>Manage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(scan, design, implement) </a:t>
            </a:r>
            <a:r>
              <a:rPr b="0" lang="en-GB" sz="1400" spc="-1" strike="noStrike">
                <a:solidFill>
                  <a:srgbClr val="339933"/>
                </a:solidFill>
                <a:latin typeface="Calibri"/>
              </a:rPr>
              <a:t>his(er) own strateg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Calibri"/>
              </a:rPr>
              <a:t>Professional Development: a means to face the challenges</a:t>
            </a: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t of the new strands of activities call for </a:t>
            </a:r>
            <a:r>
              <a:rPr b="0" lang="en-US" sz="1400" spc="-1" strike="noStrike">
                <a:solidFill>
                  <a:srgbClr val="006633"/>
                </a:solidFill>
                <a:latin typeface="Calibri"/>
              </a:rPr>
              <a:t>a better trained, more efficient and highly skilled workfo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e question of </a:t>
            </a: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trainers’ professional development has gained momentum at policy level*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raising the status of Trainers, upgrading their competence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and qualifications and keeping initial and continuous training up-to-date are </a:t>
            </a: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major issues of concern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common concern across EU countrie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about recruitment, initial training, continuous professional development, competence standards, new qualification requirements and certification systems for train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dications of </a:t>
            </a: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trends to include all substantial elements of trainers’ professional development in a coherent system,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 national and european lev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 most EU countries, </a:t>
            </a:r>
            <a:r>
              <a:rPr b="0" lang="en-US" sz="1400" spc="-1" strike="noStrike">
                <a:solidFill>
                  <a:srgbClr val="006633"/>
                </a:solidFill>
                <a:latin typeface="Calibri"/>
              </a:rPr>
              <a:t>Trainer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re seen as a </a:t>
            </a:r>
            <a:r>
              <a:rPr b="0" lang="en-US" sz="1400" spc="-1" strike="noStrike">
                <a:solidFill>
                  <a:srgbClr val="006633"/>
                </a:solidFill>
                <a:latin typeface="Calibri"/>
              </a:rPr>
              <a:t>key factor for change, growth and job sustainabilit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nd potential policy measures includ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of occupational/professional </a:t>
            </a:r>
            <a:r>
              <a:rPr b="0" lang="en-US" sz="1200" spc="-1" strike="noStrike">
                <a:solidFill>
                  <a:srgbClr val="006633"/>
                </a:solidFill>
                <a:latin typeface="Calibri"/>
              </a:rPr>
              <a:t>standards/prof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0" lang="en-US" sz="1200" spc="-1" strike="noStrike">
                <a:solidFill>
                  <a:srgbClr val="006633"/>
                </a:solidFill>
                <a:latin typeface="Calibri"/>
              </a:rPr>
              <a:t>certification/accreditation syste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national certificates, national/sectoral regi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ation and accreditation of qualifications based on prior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Calibri"/>
              </a:rPr>
              <a:t>Train the trainer-cour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optional or manda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up  of </a:t>
            </a:r>
            <a:r>
              <a:rPr b="0" lang="en-US" sz="1200" spc="-1" strike="noStrike">
                <a:solidFill>
                  <a:srgbClr val="006633"/>
                </a:solidFill>
                <a:latin typeface="Calibri"/>
              </a:rPr>
              <a:t>networks , on line platforms and network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6633"/>
                </a:solidFill>
                <a:latin typeface="Calibri"/>
              </a:rPr>
              <a:t>ISO 29990  </a:t>
            </a: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International Standard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to provide a generic model for quality professional practice </a:t>
            </a: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(see presentations of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Kieran Cox, Nora Byr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Helsinki Communiqué, 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of december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33"/>
                </a:solidFill>
                <a:latin typeface="Calibri"/>
              </a:rPr>
              <a:t>Key messages and recommendation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Recognition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iners’ status and position in society through cooperation with policy makers, training institutes, etc. and development of incen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Evidence-based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policy-making and training practice based on further research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enefits of training for the organisations (evalu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rofiles, competences and training needs of Trai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ole and contribution brought by Trainers: development of an evaluative culture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Raising the quality of trainin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through professional standards, certification processes and registers of trainers. Initiatives are necessary to enhance and support the status of train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Validating and recognisin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on-the-job learning (more confidence and recognition on labour mark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Meeting the need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of both employers and trainer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33"/>
                </a:solidFill>
                <a:latin typeface="Calibri"/>
              </a:rPr>
              <a:t>Supporting network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of trainers and communities of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Train the Trainers’ programmes on european level and development of an interactive European Digital Depository of related material would help adressingissues such as mobility across  Europe, internatonal, intercultural commun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Calibri"/>
              </a:rPr>
              <a:t>Leaflet's conclusions and remark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Roles and responsibilities of trainer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have changed fundamentally over the last years from </a:t>
            </a: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narrowly define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training responsibilities (…) to </a:t>
            </a:r>
            <a:r>
              <a:rPr b="0" lang="en-GB" sz="1600" spc="-1" strike="noStrike">
                <a:solidFill>
                  <a:srgbClr val="006633"/>
                </a:solidFill>
                <a:latin typeface="Calibri"/>
              </a:rPr>
              <a:t>broader educational function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and more complex training-related secondary processes such as managing training and cooperating with other departments and institutions”  (Cedefop, 20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Pedagogical and social competence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f the trainers “become </a:t>
            </a:r>
            <a:r>
              <a:rPr b="0" lang="en-GB" sz="1600" spc="-1" strike="noStrike">
                <a:solidFill>
                  <a:srgbClr val="006633"/>
                </a:solidFill>
                <a:latin typeface="Calibri"/>
              </a:rPr>
              <a:t>increasingly important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to facilitate didactic processes, such as mentoring, corporate learning, team working, the effective transfer of knowledge and the integration function of training” (Eurotrainer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growing importance of in-company training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within lifelong learning and skill upgrading policy strategies </a:t>
            </a: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could affect the position and status of trainers in enterprises in a positive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recognition of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the overall skills and competence </a:t>
            </a: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portfolio of trainer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extending beyond their formal qualifications </a:t>
            </a: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is expa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A huge experience accumulated in the member state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and organisations regarding roles, status and professional development of train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Networking, peer-learning, multilateral projects and cooperation are the tools to learn from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Calibri"/>
              </a:rPr>
              <a:t>Temporary conclusion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56280" indent="-31860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Trainer of the future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3438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339933"/>
                </a:solidFill>
                <a:latin typeface="Calibri"/>
              </a:rPr>
              <a:t>A team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3438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339933"/>
                </a:solidFill>
                <a:latin typeface="Calibri"/>
              </a:rPr>
              <a:t>(of) Highly qualified peopl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able t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12920" indent="-30960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cope with multiple dimensions and complex situation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2920" indent="-30960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to addres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companies, institutions, governmental bodies (proactive ro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2920" indent="-30960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to negotiate the necessary mean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(understanding, time, money, help/commitment of line managers for example) </a:t>
            </a:r>
            <a:r>
              <a:rPr b="0" lang="fr-FR" sz="1400" spc="-1" strike="noStrike">
                <a:solidFill>
                  <a:srgbClr val="339933"/>
                </a:solidFill>
                <a:latin typeface="Calibri"/>
              </a:rPr>
              <a:t>of their success and efficiency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Calibri"/>
              </a:rPr>
              <a:t>Necessity to train them</a:t>
            </a:r>
            <a:r>
              <a:rPr b="0" lang="fr-FR" sz="1600" spc="-1" strike="noStrike">
                <a:solidFill>
                  <a:srgbClr val="006633"/>
                </a:solidFill>
                <a:latin typeface="Calibri"/>
              </a:rPr>
              <a:t>, also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so that they can facilitate the development of a "real" european  entity (especially through facilitation of mobility and mutual understan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Calibri"/>
              </a:rPr>
              <a:t>Training functio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ight gain (requires) to be </a:t>
            </a:r>
            <a:r>
              <a:rPr b="0" lang="fr-FR" sz="1600" spc="-1" strike="noStrike">
                <a:solidFill>
                  <a:srgbClr val="006633"/>
                </a:solidFill>
                <a:latin typeface="Calibri"/>
              </a:rPr>
              <a:t>developed as a profession*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on a european basis i.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Calibri"/>
              </a:rPr>
              <a:t>Attention must be paid to train the trainers institut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, one major </a:t>
            </a:r>
            <a:r>
              <a:rPr b="0" lang="fr-FR" sz="1600" spc="-1" strike="noStrike">
                <a:solidFill>
                  <a:srgbClr val="339933"/>
                </a:solidFill>
                <a:latin typeface="Calibri"/>
              </a:rPr>
              <a:t>key-factor</a:t>
            </a:r>
            <a:r>
              <a:rPr b="0" lang="fr-FR" sz="1600" spc="-1" strike="noStrike">
                <a:solidFill>
                  <a:srgbClr val="006633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of the success of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It was (should have been) the role of TTNet, the Trainers Training Network, let's hope Cedefop/and/or Commission will address this issue in the fu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What about </a:t>
            </a:r>
            <a:r>
              <a:rPr b="0" lang="fr-FR" sz="1600" spc="-1" strike="noStrike">
                <a:solidFill>
                  <a:srgbClr val="339933"/>
                </a:solidFill>
                <a:latin typeface="Calibri"/>
              </a:rPr>
              <a:t>developing/continuing a network,</a:t>
            </a:r>
            <a:r>
              <a:rPr b="0" lang="fr-FR" sz="1600" spc="-1" strike="noStrike">
                <a:solidFill>
                  <a:srgbClr val="006633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he European Trainers' Training Net, </a:t>
            </a:r>
            <a:r>
              <a:rPr b="0" lang="fr-FR" sz="1600" spc="-1" strike="noStrike">
                <a:solidFill>
                  <a:srgbClr val="339933"/>
                </a:solidFill>
                <a:latin typeface="Calibri"/>
              </a:rPr>
              <a:t>ETTNet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ecific occupational and competence profile(s), a devoted training system, a code of ethics, a body in charge of the profession, of its representation, evolutions, standards, ethics, recognition, certification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33"/>
                </a:solidFill>
                <a:latin typeface="Calibri"/>
              </a:rPr>
              <a:t>Bibliography</a:t>
            </a: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J Buiskool, S.D. Broek, J.A. van Lakerveld, G.K. Zarifis. M. Osborne (2010)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ey – Competences for adult learning professional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contribution to the development of a reference framework of key competences for adult learning professionals: final report,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uropean Commission, Directorate General for Education and Culture; Research voor Beleid, Netherlands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DEFOP (2004) Philippe Tissot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erminology of Vocational Training Policy- a multilingual glossary for an enlarged Europe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Luxembourg: Office for Official Publications of the European Commun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DEFOP (2004) Pia Cort, Auli Harkonen, Kristiina Volmar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FF, Professionalization of VET teachers for the futur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  Luxembourg, Office for official publications of the European Communit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DEFOP (2008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erminology of European Education and Training Policy- a selection of 100 Key term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xembourg, Office for official publications of the European Commun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DEFOP (2010) Working Paper No 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fessional development opportunities for in-company Trainers, a compilation of good practic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Luxembourg, Office for official publications of the European Commun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Dimension européenne de la formation de formateurs, 20 ans après : travailler en réseau une opportunité et une nécessité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”. B.Thiberge. Actualité de la formation permanente.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° 215. Centre Inffo (TTNet coordinator in Franc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in Webb   (2008)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cognition and validation of informal and non- formal learning for VET teachers and Trainers in the EU member states - Final Report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cedefop.europa.eu/EN/Files/2067-att1-1-Edwin_Webb.pd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ropean Commission (2010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urope 202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 strategy for smart, sustainable and inclusive grow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9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ec.europa.eu/archives/growthandjobs_2009/pdf/complet_en.pd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ropean Commission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old Gross (2010)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12th TTnet Annual Conference “</a:t>
            </a: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Better teaching for better learning. Supporting Teachers and trainers meeting challenges of today and tomorrow”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 Reporting form workshop 3 - In Trainers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cedefop.europa.eu/EN/news/15466.aspx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ristiina Volmari, Seppo Helakorpi &amp; Rasmus Frimodt  (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09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etence framework for VET Professionals-Handbook for practitioners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innish National Board of Education, Helsink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La fonction formation. Contribution à une réflexion prospective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GARF. Collection études.  . France,  Décembre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ke Pedler, Tom Boydell and John Bourgoyne (1991) </a:t>
            </a: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Learning Company: A strategy for sustainable development,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ondon: McGraw-H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onal Accreditation Centre for Lifelong Learning Providers-EKEPIS (2010)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dult Trainers’ Job Profi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Athens,</a:t>
            </a:r>
            <a:r>
              <a:rPr b="0" lang="en-US" sz="9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www.ekepis.gr/main/ΔράσειςΥπηρεσίες/ΕπαγγελματικάΠεριγράμματα/ΚατάλογοςΕπαγγελματικώνΠεριγραμμάτων/tabid/143/Default.aspx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smus Frimodt, Kristiina Volmari, Arduino Salatin, Daniela Carlini, Cristina di Giambattista  (2006)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9th TTnet annual Conference, TTnet Pilot Project “Defining VET Professions in line with the EQF” –  Final Resul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nge, P. (1990) The Fifth Discipline, London: Century Business, Random Cent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on Field,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Kathrin Hoeckel, Viktoria Kis and Malgorzata Kuzcera  (2009) </a:t>
            </a: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Learning for jobs, OECD Policy Review of Vocational Education and Training: Initial Review,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one Kirpal &amp; Roland Tutschner, with support from  Martin Fischer, Eileen Lübcke, Dirk Stieglitz &amp; Wolfgang Wittig  (2008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uroTrainer, making lifelong learning possible, a study of the situation and qualifications  of Trainers in Europe, Final Report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stitut Technik + Bildung University of Br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The Bruges Communique on Enhanced European Cooperation in Vocational Education and Training for the period 2011-2020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, 7. December 2010, Belgian Presidency, Education and Training </a:t>
            </a:r>
            <a:r>
              <a:rPr b="0" lang="en-GB" sz="9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http://ec.europa.eu/education/lifelong-learning-policy/doc/vocational/bruges_en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The Helsinki Communique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GB" sz="9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ec.europa.eu/education/policies/2010/doc/helsinkicom_en.pdf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Accessed 17/11/20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iners Network,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a Resource for the Facilitators of Learning Lt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IE) (2009)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ssuring world class competencies for Trainer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9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9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trainersnetwork.ie/tnfullrep.pd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33"/>
                </a:solidFill>
                <a:latin typeface="Calibri"/>
              </a:rPr>
              <a:t>Origin of this presenta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63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33"/>
                </a:solidFill>
                <a:latin typeface="Calibri"/>
              </a:rPr>
              <a:t>In 1998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CEDEFOP founded a network of national networks aimed a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fostering cooperation between key national actors: the Training of Trainers’ Network, </a:t>
            </a:r>
            <a:r>
              <a:rPr b="1" lang="fr-FR" sz="2000" spc="-1" strike="noStrike">
                <a:solidFill>
                  <a:srgbClr val="339933"/>
                </a:solidFill>
                <a:latin typeface="Calibri"/>
              </a:rPr>
              <a:t>TT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33"/>
                </a:solidFill>
                <a:latin typeface="Calibri"/>
              </a:rPr>
              <a:t>TTNet members worked together and produced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: recommendations, occupational profi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ast teamwork “assignment”: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ising awareness abou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iners in the World of Work as an “unexplored force for development and change” through the </a:t>
            </a:r>
            <a:r>
              <a:rPr b="1" lang="en-US" sz="2000" spc="-1" strike="noStrike">
                <a:solidFill>
                  <a:srgbClr val="006633"/>
                </a:solidFill>
                <a:latin typeface="Calibri"/>
              </a:rPr>
              <a:t>publication of a leafle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rch 2011: </a:t>
            </a:r>
            <a:r>
              <a:rPr b="1" lang="fr-FR" sz="2000" spc="-1" strike="noStrike">
                <a:solidFill>
                  <a:srgbClr val="006633"/>
                </a:solidFill>
                <a:latin typeface="Calibri"/>
              </a:rPr>
              <a:t>Cedefop decides to stop supporting TT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33"/>
                </a:solidFill>
                <a:latin typeface="Calibri"/>
              </a:rPr>
              <a:t>This leaflet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completed in February 2011, has in our view, </a:t>
            </a:r>
            <a:r>
              <a:rPr b="1" lang="fr-FR" sz="2000" spc="-1" strike="noStrike">
                <a:solidFill>
                  <a:srgbClr val="006633"/>
                </a:solidFill>
                <a:latin typeface="Calibri"/>
              </a:rPr>
              <a:t>a real valu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either according to the </a:t>
            </a:r>
            <a:r>
              <a:rPr b="1" lang="fr-FR" sz="2000" spc="-1" strike="noStrike">
                <a:solidFill>
                  <a:srgbClr val="006633"/>
                </a:solidFill>
                <a:latin typeface="Calibri"/>
              </a:rPr>
              <a:t>european teamwork proces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or to the </a:t>
            </a:r>
            <a:r>
              <a:rPr b="1" lang="fr-FR" sz="2000" spc="-1" strike="noStrike">
                <a:solidFill>
                  <a:srgbClr val="006633"/>
                </a:solidFill>
                <a:latin typeface="Calibri"/>
              </a:rPr>
              <a:t>result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33"/>
                </a:solidFill>
                <a:latin typeface="Calibri"/>
              </a:rPr>
              <a:t>Its Purpos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33"/>
                </a:solidFill>
                <a:latin typeface="Calibri"/>
              </a:rPr>
              <a:t>A step toward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Training providers and In-company Trainers' </a:t>
            </a:r>
            <a:r>
              <a:rPr b="1" lang="fr-FR" sz="2000" spc="-1" strike="noStrike">
                <a:solidFill>
                  <a:srgbClr val="339933"/>
                </a:solidFill>
                <a:latin typeface="Calibri"/>
              </a:rPr>
              <a:t>better understanding and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 some extent it is </a:t>
            </a:r>
            <a:r>
              <a:rPr b="1" lang="fr-FR" sz="2000" spc="-1" strike="noStrike">
                <a:solidFill>
                  <a:srgbClr val="339933"/>
                </a:solidFill>
                <a:latin typeface="Calibri"/>
              </a:rPr>
              <a:t>a testimonial to the TTN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33"/>
                </a:solidFill>
                <a:latin typeface="Calibri"/>
              </a:rPr>
              <a:t>Workforce Trainers deserve and need more recognition and awarenes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from companies, governmental bodies, etc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e content</a:t>
            </a:r>
            <a:r>
              <a:rPr b="1" lang="fr-FR" sz="2000" spc="-1" strike="noStrike">
                <a:solidFill>
                  <a:srgbClr val="339933"/>
                </a:solidFill>
                <a:latin typeface="Calibri"/>
              </a:rPr>
              <a:t> of this leaflet may facilitate the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e thought it </a:t>
            </a:r>
            <a:r>
              <a:rPr b="1" lang="fr-FR" sz="2000" spc="-1" strike="noStrike">
                <a:solidFill>
                  <a:srgbClr val="339933"/>
                </a:solidFill>
                <a:latin typeface="Calibri"/>
              </a:rPr>
              <a:t>useful and relevant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within  the framework of this conference </a:t>
            </a:r>
            <a:r>
              <a:rPr b="1" lang="fr-FR" sz="2000" spc="-1" strike="noStrike">
                <a:solidFill>
                  <a:srgbClr val="339933"/>
                </a:solidFill>
                <a:latin typeface="Calibri"/>
              </a:rPr>
              <a:t>to share its analysis, recommendations and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Calibri"/>
              </a:rPr>
              <a:t>Identity of Trainers in the world of work:  </a:t>
            </a:r>
            <a:br>
              <a:rPr sz="2800"/>
            </a:br>
            <a:r>
              <a:rPr b="1" lang="en-GB" sz="2800" spc="-1" strike="noStrike">
                <a:solidFill>
                  <a:srgbClr val="339933"/>
                </a:solidFill>
                <a:latin typeface="Calibri"/>
              </a:rPr>
              <a:t>who are they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alibri"/>
              </a:rPr>
              <a:t>Internal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339933"/>
                </a:solidFill>
                <a:latin typeface="Calibri"/>
              </a:rPr>
              <a:t>Employ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y an organisation, engaged either on a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full-time or on a part-time basi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n any form of formal or informal training within the compa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Calibri"/>
              </a:rPr>
              <a:t>External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339933"/>
                </a:solidFill>
                <a:latin typeface="Calibri"/>
              </a:rPr>
              <a:t>Coming from outsid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he organisation, implementing training at/or outside the workplace, 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people employ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y one or more organisations or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unemployed peopl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ntended to be employed by one or more specific organis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a broader sense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any learning service provide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T teacher or trainer, instructor, facilitator, training consultant, etc., employed or not employed by an organisation,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working closel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th the organisation on a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part-time or a full-time basi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providing training to the workfo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employed or to be employed by the organisation, can be considered as a Trai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33"/>
                </a:solidFill>
                <a:latin typeface="Calibri"/>
              </a:rPr>
              <a:t>Identity of Trainers in the world of work:  </a:t>
            </a:r>
            <a:br>
              <a:rPr sz="2400"/>
            </a:br>
            <a:r>
              <a:rPr b="1" lang="en-IE" sz="2400" spc="-1" strike="noStrike">
                <a:solidFill>
                  <a:srgbClr val="006633"/>
                </a:solidFill>
                <a:latin typeface="Calibri"/>
              </a:rPr>
              <a:t>F</a:t>
            </a:r>
            <a:r>
              <a:rPr b="1" lang="en-GB" sz="2400" spc="-1" strike="noStrike">
                <a:solidFill>
                  <a:srgbClr val="006633"/>
                </a:solidFill>
                <a:latin typeface="Calibri"/>
              </a:rPr>
              <a:t>unction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33"/>
                </a:solidFill>
                <a:latin typeface="Calibri"/>
              </a:rPr>
              <a:t>Four main area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dministration, Training facilitation, Development and Quality Assurance, Networking* (1)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Calibri"/>
              </a:rPr>
              <a:t>Main function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of a trainer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cope and range varies, depending on the context of training, size of company, sector of economy etc. -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provide </a:t>
            </a:r>
            <a:r>
              <a:rPr b="0" lang="en-US" sz="1600" spc="-1" strike="noStrike">
                <a:solidFill>
                  <a:srgbClr val="339933"/>
                </a:solidFill>
                <a:latin typeface="Calibri"/>
              </a:rPr>
              <a:t>diagnosi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f individual, organisational and sectoral training needs, as well as –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planning, design, implementation and evaluation of vocational training and training strategi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contributing in such a wa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towards acquisition of competences by the workforce</a:t>
            </a:r>
            <a:r>
              <a:rPr b="0" lang="en-I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be a </a:t>
            </a:r>
            <a:r>
              <a:rPr b="0" lang="en-GB" sz="1600" spc="-1" strike="noStrike">
                <a:solidFill>
                  <a:srgbClr val="006633"/>
                </a:solidFill>
                <a:latin typeface="Calibri"/>
              </a:rPr>
              <a:t>"mediator”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between the organisation and its workforce, </a:t>
            </a:r>
            <a:r>
              <a:rPr b="0" lang="en-GB" sz="1600" spc="-1" strike="noStrike">
                <a:solidFill>
                  <a:srgbClr val="339933"/>
                </a:solidFill>
                <a:latin typeface="Calibri"/>
              </a:rPr>
              <a:t>facilitating the harmonisation between individual expectations and organisational goals</a:t>
            </a:r>
            <a:r>
              <a:rPr b="0" lang="en-IE" sz="1600" spc="-1" strike="noStrike">
                <a:solidFill>
                  <a:srgbClr val="339933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 interrelat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administrative/financial/organisational aspects towards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promoting change, innovation and enhancement of the concept of “learning organisation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in the compa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600" spc="-1" strike="noStrike">
                <a:solidFill>
                  <a:srgbClr val="006633"/>
                </a:solidFill>
                <a:latin typeface="Calibri"/>
              </a:rPr>
              <a:t>cooperat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th stakeholders, labour market, external educational networks,  in order to be aware of their requirements and opportunities offer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“Competence Framework for VET Professionals” (Volmari, Helakorpi, Frimodt 2009), Cedefop, Finish National Board of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Identity of Trainers in the world of work:</a:t>
            </a:r>
            <a:br>
              <a:rPr sz="2400"/>
            </a:b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areas of competences needed by adult learning professionals in E.U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5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ording to a recent study* they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-37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Calibri"/>
              </a:rPr>
              <a:t>Personal competence: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being a fully autonomous lifelong lea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-37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Interpersonal competence: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being a communicator, team player and networ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-37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Professional competence: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being responsible for the further development of adult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-37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Expertise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(theoretical/practical knowledge): being an expert in a field of study/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-37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Didactical compe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-37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mpetence in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empowering adult lear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840" indent="-37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mpetence in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dealing with heterogeneity and diversity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in grou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. J Buiskool, S.D. Broek, J.A. van Lakerveld, G.K. Zarifis. M. Osborne (2010)  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Key – Competences for adult learning professional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900" spc="-1" strike="noStrike">
                <a:solidFill>
                  <a:srgbClr val="000000"/>
                </a:solidFill>
                <a:latin typeface="Calibri"/>
              </a:rPr>
              <a:t>contribution to the development of a reference framework of key competences for adult learning professionals: final report,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uropean Commission, Directorate General for Education and Culture; Research voor Beleid, Netherlan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Calibri"/>
              </a:rPr>
              <a:t>A new era of major changes and Lifelong Learning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Rapid changes in the economic environment,</a:t>
            </a:r>
            <a:r>
              <a:rPr b="1" lang="fr-FR" sz="1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technological advances, information and communication </a:t>
            </a:r>
            <a:r>
              <a:rPr b="1" lang="en-US" sz="1600" spc="-1" strike="noStrike">
                <a:solidFill>
                  <a:srgbClr val="339933"/>
                </a:solidFill>
                <a:latin typeface="Calibri"/>
              </a:rPr>
              <a:t>technologies,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demand more than ever that employees have </a:t>
            </a:r>
            <a:r>
              <a:rPr b="1" lang="en-GB" sz="1600" spc="-1" strike="noStrike">
                <a:solidFill>
                  <a:srgbClr val="006633"/>
                </a:solidFill>
                <a:latin typeface="Calibri"/>
              </a:rPr>
              <a:t>easy access to training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in order to master the necessary skills and competences according to their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339933"/>
                </a:solidFill>
                <a:latin typeface="Calibri"/>
              </a:rPr>
              <a:t>An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Ageing society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raises the demand for suitable places for both employed and unemployed older workers, giving them the opportunity to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update their skills and to upgrade their competences through training and learning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within and outside of the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Greening economy and race for competitivenes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open new spheres where the existing and new upcoming workforce needs to be additionally qualified and trained in order to keep pace with the business dyna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Lifelong learning, and workforce learning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as a substantial part of it, is of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strategic importance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for the productivity and competitiveness of each organisation and of the society as a wh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Training </a:t>
            </a:r>
            <a:r>
              <a:rPr b="1" lang="en-IE" sz="2400" spc="-1" strike="noStrike">
                <a:solidFill>
                  <a:srgbClr val="339933"/>
                </a:solidFill>
                <a:latin typeface="Calibri"/>
              </a:rPr>
              <a:t>F</a:t>
            </a: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unction: </a:t>
            </a:r>
            <a:r>
              <a:rPr b="1" lang="en-IE" sz="2400" spc="-1" strike="noStrike">
                <a:solidFill>
                  <a:srgbClr val="339933"/>
                </a:solidFill>
                <a:latin typeface="Calibri"/>
              </a:rPr>
              <a:t>In</a:t>
            </a: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fluencing Factors and Challenge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raining challenges are bound to organisations’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raining is a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A solution to competenc</a:t>
            </a:r>
            <a:r>
              <a:rPr b="1" lang="en-IE" sz="1600" spc="-1" strike="noStrike">
                <a:solidFill>
                  <a:srgbClr val="339933"/>
                </a:solidFill>
                <a:latin typeface="Calibri"/>
              </a:rPr>
              <a:t>y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 issue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: a solution to allow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workforce to be and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main competent to accomplish tasks and activities demanded by organisation’s business strategies.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hat is why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challenges faced by the “training function” depend on the challenges and changes emerging in internal (organisation, working conditions, structure, etc.) and external environments of companies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lobalis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creasing competi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Financia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li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celeration of migrations (mainly from poorer to richer count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European, national and  local regula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hanging employees’ needs and expectatio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creasing pressures on natural resources requiring action to maintain prosperity and improve environmental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Influencing factors : </a:t>
            </a:r>
            <a:r>
              <a:rPr b="1" lang="en-IE" sz="2400" spc="-1" strike="noStrike">
                <a:solidFill>
                  <a:srgbClr val="339933"/>
                </a:solidFill>
                <a:latin typeface="Calibri"/>
              </a:rPr>
              <a:t>C</a:t>
            </a:r>
            <a:r>
              <a:rPr b="1" lang="en-GB" sz="2400" spc="-1" strike="noStrike">
                <a:solidFill>
                  <a:srgbClr val="339933"/>
                </a:solidFill>
                <a:latin typeface="Calibri"/>
              </a:rPr>
              <a:t>hallenges for Organisation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s a consequence,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rganisations have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Increase profit and performance, manage (reduce) cost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and in a number of cases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develop outsourcing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(including some HR activ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Improve competitivenes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in highly competitive markets, on a global level, focus on customer needs and therefore </a:t>
            </a: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reinforce customer-orientated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Develop internationalisation,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partnerships and improve communication at all levels, mainly on the international le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Permanently innovate,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adapt work organisation, workforce skills, individual and collective competences, products to current and future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Calibri"/>
              </a:rPr>
              <a:t>Change human resource management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in order to tackle human resource challenges/attract talents,  master risks and support company’s social responsibility (corporate social responsibility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no THIBERGE-Sept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8:08:08Z</dcterms:created>
  <dc:creator>bruno</dc:creator>
  <dc:description/>
  <dc:language>en-US</dc:language>
  <cp:lastModifiedBy>Bruno THIBERGE</cp:lastModifiedBy>
  <dcterms:modified xsi:type="dcterms:W3CDTF">2011-09-14T16:14:56Z</dcterms:modified>
  <cp:revision>26</cp:revision>
  <dc:subject/>
  <dc:title>Diapositive 1</dc:title>
</cp:coreProperties>
</file>